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F94-E281-4011-A0E2-83FFDAE01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BE09-AC2B-4943-A8D7-12C5AA75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51B-B290-4041-A25F-078553C5E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290-2D0B-4AD8-9579-2AE1D13E5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10C7-94F2-4713-9CFF-69C686204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AB30-F684-494C-BE82-DABEF8FDC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A7DC-90BF-4F44-B8AE-505561362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B5EC-AAE8-4228-A541-A8C008E77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49C1-A3A7-40A8-8C87-E7A62BEAE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FFC6-6936-4B89-A2F5-8CACA1036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04D8-06C3-4C31-89F8-08E441ECC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E9CA-144B-4A1F-9A76-EC3FA8A89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6499-A061-427A-A265-3C0154238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06CD-C808-41B4-B6C6-13B7BEACD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BB3D-CBED-4EB5-B3A7-13FA99F69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9946-4C78-416D-88DC-4F3A45F91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2B08-EC30-4D27-AEE0-B328E882AED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a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Reporting and Fiscal Perio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eets help prepare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atements are used to make company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cal Period – length of time for which a business summarizes and reports  financial information (can be done anytime, but will be done at end of fiscal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 Accountants must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Reporting – is applied when the same accounting procedures are followed in the same way in each accounting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sh vs Accr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3BD-8094-4F2D-BEA0-28893DC2FE1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47CA-0965-4BD8-A989-429B1ADE2DE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THE HEADING OF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C:\Documents and Settings\mcm08@fuse.net\My Documents\2005 Business Projects\Slides for Century 21 Accounting\Blue\ch06\C21_blue_0601.jpg"/>
          <p:cNvPicPr/>
          <p:nvPr/>
        </p:nvPicPr>
        <p:blipFill>
          <a:blip r:embed="rId1"/>
          <a:srcRect l="13089" t="0" r="12144" b="0"/>
          <a:stretch/>
        </p:blipFill>
        <p:spPr>
          <a:xfrm>
            <a:off x="457200" y="2629080"/>
            <a:ext cx="6095880" cy="2220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3025800"/>
            <a:ext cx="2806920" cy="411120"/>
            <a:chOff x="5410080" y="3025800"/>
            <a:chExt cx="2806920" cy="411120"/>
          </a:xfrm>
        </p:grpSpPr>
        <p:sp>
          <p:nvSpPr>
            <p:cNvPr id="107" name="Text Box 7"/>
            <p:cNvSpPr/>
            <p:nvPr/>
          </p:nvSpPr>
          <p:spPr>
            <a:xfrm>
              <a:off x="5916600" y="3025800"/>
              <a:ext cx="230040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of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5410080" y="302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4572000" y="3538440"/>
            <a:ext cx="2482920" cy="411120"/>
            <a:chOff x="4572000" y="3538440"/>
            <a:chExt cx="2482920" cy="411120"/>
          </a:xfrm>
        </p:grpSpPr>
        <p:sp>
          <p:nvSpPr>
            <p:cNvPr id="110" name="Text Box 8"/>
            <p:cNvSpPr/>
            <p:nvPr/>
          </p:nvSpPr>
          <p:spPr>
            <a:xfrm>
              <a:off x="5079960" y="3538440"/>
              <a:ext cx="197496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of Re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4572000" y="353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3"/>
          <p:cNvGrpSpPr/>
          <p:nvPr/>
        </p:nvGrpSpPr>
        <p:grpSpPr>
          <a:xfrm>
            <a:off x="6248520" y="4059360"/>
            <a:ext cx="2338200" cy="419040"/>
            <a:chOff x="6248520" y="4059360"/>
            <a:chExt cx="2338200" cy="419040"/>
          </a:xfrm>
        </p:grpSpPr>
        <p:sp>
          <p:nvSpPr>
            <p:cNvPr id="113" name="Text Box 9"/>
            <p:cNvSpPr/>
            <p:nvPr/>
          </p:nvSpPr>
          <p:spPr>
            <a:xfrm>
              <a:off x="6753240" y="4067280"/>
              <a:ext cx="183348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 of Re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248520" y="4059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9675-F925-4F4A-97EE-1E475CBDAB1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48006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general ledger account ti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800600" y="21193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general ledger debit account balances. Write the general ledger credit account bal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4800600" y="40719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oth the Trial Balance Debit and Credi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4800600" y="34005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 across the two Trial Balance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4800600" y="47433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’s total below the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4800600" y="5413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 across both Trial Balance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 TRIAL BALANCE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Documents and Settings\mcm08@fuse.net\My Documents\2005 Business Projects\Slides for Century 21 Accounting\Blue\ch06\C21_blue_0602.jpg"/>
          <p:cNvPicPr/>
          <p:nvPr/>
        </p:nvPicPr>
        <p:blipFill>
          <a:blip r:embed="rId1"/>
          <a:stretch/>
        </p:blipFill>
        <p:spPr>
          <a:xfrm>
            <a:off x="685800" y="1447920"/>
            <a:ext cx="3522600" cy="4876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2"/>
          <p:cNvGrpSpPr/>
          <p:nvPr/>
        </p:nvGrpSpPr>
        <p:grpSpPr>
          <a:xfrm>
            <a:off x="219240" y="2514600"/>
            <a:ext cx="695160" cy="3352680"/>
            <a:chOff x="219240" y="2514600"/>
            <a:chExt cx="695160" cy="3352680"/>
          </a:xfrm>
        </p:grpSpPr>
        <p:sp>
          <p:nvSpPr>
            <p:cNvPr id="127" name="Freeform 21"/>
            <p:cNvSpPr/>
            <p:nvPr/>
          </p:nvSpPr>
          <p:spPr>
            <a:xfrm>
              <a:off x="457200" y="2514600"/>
              <a:ext cx="457200" cy="3352680"/>
            </a:xfrm>
            <a:custGeom>
              <a:avLst/>
              <a:gdLst/>
              <a:ahLst/>
              <a:rect l="l" t="t" r="r" b="b"/>
              <a:pathLst>
                <a:path w="288" h="3072">
                  <a:moveTo>
                    <a:pt x="288" y="0"/>
                  </a:moveTo>
                  <a:lnTo>
                    <a:pt x="0" y="0"/>
                  </a:lnTo>
                  <a:lnTo>
                    <a:pt x="0" y="3072"/>
                  </a:lnTo>
                  <a:lnTo>
                    <a:pt x="288" y="30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19240" y="3984480"/>
              <a:ext cx="411120" cy="411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3176640" y="1447920"/>
            <a:ext cx="609480" cy="685800"/>
            <a:chOff x="3176640" y="1447920"/>
            <a:chExt cx="609480" cy="685800"/>
          </a:xfrm>
        </p:grpSpPr>
        <p:sp>
          <p:nvSpPr>
            <p:cNvPr id="130" name="Freeform 23"/>
            <p:cNvSpPr/>
            <p:nvPr/>
          </p:nvSpPr>
          <p:spPr>
            <a:xfrm>
              <a:off x="3176640" y="16765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3276720" y="1447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8"/>
          <p:cNvGrpSpPr/>
          <p:nvPr/>
        </p:nvGrpSpPr>
        <p:grpSpPr>
          <a:xfrm>
            <a:off x="4125960" y="2514600"/>
            <a:ext cx="411120" cy="3352680"/>
            <a:chOff x="4125960" y="2514600"/>
            <a:chExt cx="411120" cy="3352680"/>
          </a:xfrm>
        </p:grpSpPr>
        <p:sp>
          <p:nvSpPr>
            <p:cNvPr id="133" name="Freeform 26"/>
            <p:cNvSpPr/>
            <p:nvPr/>
          </p:nvSpPr>
          <p:spPr>
            <a:xfrm flipH="1">
              <a:off x="4129920" y="2514600"/>
              <a:ext cx="219240" cy="3352680"/>
            </a:xfrm>
            <a:custGeom>
              <a:avLst/>
              <a:gdLst/>
              <a:ahLst/>
              <a:rect l="l" t="t" r="r" b="b"/>
              <a:pathLst>
                <a:path w="288" h="3072">
                  <a:moveTo>
                    <a:pt x="288" y="0"/>
                  </a:moveTo>
                  <a:lnTo>
                    <a:pt x="0" y="0"/>
                  </a:lnTo>
                  <a:lnTo>
                    <a:pt x="0" y="3072"/>
                  </a:lnTo>
                  <a:lnTo>
                    <a:pt x="288" y="30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4125960" y="3984480"/>
              <a:ext cx="411120" cy="411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33"/>
          <p:cNvGrpSpPr/>
          <p:nvPr/>
        </p:nvGrpSpPr>
        <p:grpSpPr>
          <a:xfrm>
            <a:off x="2133720" y="5199120"/>
            <a:ext cx="723960" cy="592200"/>
            <a:chOff x="2133720" y="5199120"/>
            <a:chExt cx="723960" cy="592200"/>
          </a:xfrm>
        </p:grpSpPr>
        <p:sp>
          <p:nvSpPr>
            <p:cNvPr id="136" name="Freeform 32"/>
            <p:cNvSpPr/>
            <p:nvPr/>
          </p:nvSpPr>
          <p:spPr>
            <a:xfrm>
              <a:off x="2324160" y="5410080"/>
              <a:ext cx="533520" cy="3812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240"/>
                  </a:move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2133720" y="5199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1924200" y="5686560"/>
            <a:ext cx="894960" cy="411120"/>
            <a:chOff x="1924200" y="5686560"/>
            <a:chExt cx="894960" cy="411120"/>
          </a:xfrm>
        </p:grpSpPr>
        <p:sp>
          <p:nvSpPr>
            <p:cNvPr id="139" name="Line 31"/>
            <p:cNvSpPr/>
            <p:nvPr/>
          </p:nvSpPr>
          <p:spPr>
            <a:xfrm flipH="1">
              <a:off x="1996560" y="5896080"/>
              <a:ext cx="8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1924200" y="568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067280" y="5791320"/>
            <a:ext cx="838080" cy="411120"/>
            <a:chOff x="4067280" y="5791320"/>
            <a:chExt cx="838080" cy="411120"/>
          </a:xfrm>
        </p:grpSpPr>
        <p:sp>
          <p:nvSpPr>
            <p:cNvPr id="142" name="Line 36"/>
            <p:cNvSpPr/>
            <p:nvPr/>
          </p:nvSpPr>
          <p:spPr>
            <a:xfrm>
              <a:off x="4067280" y="60055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4494240" y="57913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5D2-FA54-4E13-8164-10074A939D8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04:39Z</dcterms:modified>
  <cp:revision>20</cp:revision>
  <dc:subject/>
  <dc:title>Lesson 6-1</dc:title>
</cp:coreProperties>
</file>